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2CB4-45F3-4C31-8CC2-421731FC6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D3BA-111E-48E0-9B7D-18AEF23D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CC96-2265-40AB-9764-C1A51E216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55F1-AAF8-4594-B9EF-DD5DE5FF8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3091-5D3C-463F-9269-18B67748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19C5-AC18-4B7D-B46C-5F4C933D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383B-D03B-42DA-9419-9CFF44B7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3F62-B260-4B9D-8480-5AEE4354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69D9-6598-4957-8A54-1D02E643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5807-F830-4DA6-9975-568845EE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B515-5377-412A-A9E7-401F8BAE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2882-D9C4-425A-8C7D-42264144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00F1-1C89-4C3F-9224-CA24E831A10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Управление дивидендной политикой капитала - предпочтения инвестор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екция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imes New Roman"/>
              </a:rPr>
              <a:t>Источники дивидендных выплат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истая прибыль отчетного перио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imes New Roman"/>
              </a:rPr>
              <a:t>нераспределенная прибыль прошлых период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imes New Roman"/>
              </a:rPr>
              <a:t>специальные фонды, созданные для этой цел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1699920" y="352260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Варианты дивидендных выплат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тодика постоянного процентного распределения прибы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тодика фиксированных дивидендных выплат, или называют политикой компромисс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дель выплаты дивидендов по остаточному принцип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ивиденд в форме акци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робление акци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пуск акции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imes New Roman"/>
              </a:rPr>
              <a:t>Дивидендная политика -</a:t>
            </a:r>
            <a:r>
              <a:rPr b="0" lang="ru-RU" sz="2400" spc="-1" strike="noStrike">
                <a:solidFill>
                  <a:srgbClr val="e5ffff"/>
                </a:solidFill>
                <a:latin typeface="Times New Roman"/>
              </a:rPr>
              <a:t> принятие решения о том, выплачивать ли заработанные средства в виде дивидендов или оставлять их и реинвестировать в активы фирмы..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ивидендная политика, как и управление структурой капитала, оказывает существенное влияние на цену акций предприятия. Если компания увеличивает дивиденды, то это приведет к уменьшению объема реинвестиций, ожидаемый темп роста масштабов деятельности снижается, что, скорее всего, приведет к снижению цены акций. Ведь реинвестирование прибыли – более приемлемая и относительно дешевая форма финансирования предприятия, развивающего свою деятельность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b5481"/>
                </a:solidFill>
                <a:latin typeface="Tahoma"/>
              </a:rPr>
              <a:t>Существует различные подходы в теории дивидендной политик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1042920" y="2205000"/>
            <a:ext cx="763272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2b5481"/>
                </a:solidFill>
                <a:latin typeface="Times New Roman"/>
              </a:rPr>
              <a:t>- Теория иррелевантности дивидендо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5481"/>
                </a:solidFill>
                <a:latin typeface="Times New Roman"/>
              </a:rPr>
              <a:t>(Ф. Модильяни и М. Миллер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b5481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2b5481"/>
                </a:solidFill>
                <a:latin typeface="Times New Roman"/>
              </a:rPr>
              <a:t>- Теория «синицы в руках»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5481"/>
                </a:solidFill>
                <a:latin typeface="Times New Roman"/>
              </a:rPr>
              <a:t>(М. Гордон и Д. Линтнер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b5481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2b5481"/>
                </a:solidFill>
                <a:latin typeface="Times New Roman"/>
              </a:rPr>
              <a:t>- Теория, основанная на налоговых эффекта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5481"/>
                </a:solidFill>
                <a:latin typeface="Times New Roman"/>
              </a:rPr>
              <a:t>(Р. Литценбергером и К. Рамасвани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imes New Roman"/>
              </a:rPr>
              <a:t>Теория иррелевантности дивидендов</a:t>
            </a:r>
            <a:br>
              <a:rPr sz="2800"/>
            </a:br>
            <a:r>
              <a:rPr b="1" lang="ru-RU" sz="2800" spc="-1" strike="noStrike">
                <a:solidFill>
                  <a:srgbClr val="e5ffff"/>
                </a:solidFill>
                <a:latin typeface="Times New Roman"/>
              </a:rPr>
              <a:t> (Ф. Модильяни и М. Миллера)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литика выплат дивидендов не влияет на стоимость фирмы или цену ее капитала. По их мнению, стоимость фирмы определяется ее общей способностью приносить прибыль и степенью риска; более того, стоимость фирмы в большей степени зависит от инвестиционной политики, нежели от того, какая часть прибыли выплачивается в виде дивидендов, а какая реинвестируется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Основной вывод этих ученых – дивидендная политика не нужн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imes New Roman"/>
              </a:rPr>
              <a:t>Теория «синицы в руках» </a:t>
            </a:r>
            <a:br>
              <a:rPr sz="2800"/>
            </a:br>
            <a:r>
              <a:rPr b="1" lang="ru-RU" sz="2800" spc="-1" strike="noStrike">
                <a:solidFill>
                  <a:srgbClr val="e5ffff"/>
                </a:solidFill>
                <a:latin typeface="Times New Roman"/>
              </a:rPr>
              <a:t>(М. Гордон и Д. Линтнер)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 соглашаясь с Модельяни и Миллер, они доказывают, что дивиденды менее рисковые, чем доход от прироста капитала, поэтому фирма должна устанавливать высокий удельный вес дивидендных выплат в прибыли и предлагать высокую дивидендную доходность с тем, чтобы максимизировать свою стоим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imes New Roman"/>
              </a:rPr>
              <a:t>Третья теория, основанная на налоговых эффектах, была преложена Р. Литценбергером и К. Рамасвани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зиция противоположна позиции Гордона и литера. Они утверждают, что, поскольку дивиденды облагаются налогами по значительно большей ставке, чем доход от прироста капитала, инвесторы должны требовать более выгодного дохода на акции с высокими ставками дивидендов. В соответствии с этой теорией фирма должна платить низкие (или нулевые) дивиденды в целях максимизации своей стоим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ределение оптимальной политики выплаты дивидендов чрезвычайно затруднительно. Отсюда, каждое предприятие должно выбирать свою субъективную политику исходя прежде всего из присущих ему особенностей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Факторы, влияющие на дивидендную политику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ловия займ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граничения, связанные с привилегированными акциями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ило эрозии капитал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личие денежных средст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штрафной налог на неправильно накапливаемую прибыл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трол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роцедура выплаты дивидендов стандартна и проходит в несколько этапов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Дата объявлен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Дата регистрации держателей акци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Экс-дивидендная дат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Дата выплат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18:22:27Z</dcterms:created>
  <dc:creator>Admin</dc:creator>
  <dc:description/>
  <dc:language>en-US</dc:language>
  <cp:lastModifiedBy>Customer</cp:lastModifiedBy>
  <dcterms:modified xsi:type="dcterms:W3CDTF">2011-06-08T06:35:58Z</dcterms:modified>
  <cp:revision>4</cp:revision>
  <dc:subject/>
  <dc:title>Управление дивидендной политикой</dc:title>
</cp:coreProperties>
</file>